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5B0-2597-494A-8834-49AF90B1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848-3B2D-469F-B462-FA6A3C21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2D2-5FCE-4EF9-861F-DF089A39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64D-B370-4FBB-B69A-60FB66CC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C89-7262-4E3E-A218-6D4601E3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129-EB20-4AE0-BFBC-8F2B9E1C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2C9-B959-48E5-8FF6-59C17F18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76D-32A5-47FD-97EA-5537D6D4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D5F-8A1B-4C9D-947E-386882C2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DEF-5389-4E7A-BEA2-60ECDA64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A6A-AC02-44D1-9E64-56ADF1D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5F1-D8A0-4ED3-A042-60F6FD6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5F10-1DAA-471E-B3E1-E60E9AE36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 Update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kas Mueller, T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Acknowledg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 program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ny Y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is X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IR Cu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GD: Simon Twi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*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281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Fe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Tr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752480"/>
            <a:ext cx="2683080" cy="825480"/>
          </a:xfrm>
          <a:prstGeom prst="wedgeRectCallout">
            <a:avLst>
              <a:gd name="adj1" fmla="val -122296"/>
              <a:gd name="adj2" fmla="val 719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s download of literatur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2971800"/>
            <a:ext cx="3058920" cy="1557000"/>
          </a:xfrm>
          <a:prstGeom prst="wedgeRectCallout">
            <a:avLst>
              <a:gd name="adj1" fmla="val -101680"/>
              <a:gd name="adj2" fmla="val -1819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simple user interface for annotation tasks and stores all relevan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9040" y="5181480"/>
            <a:ext cx="4108320" cy="825480"/>
          </a:xfrm>
          <a:prstGeom prst="wedgeRectCallout">
            <a:avLst>
              <a:gd name="adj1" fmla="val -71675"/>
              <a:gd name="adj2" fmla="val -14537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s objects, such as articl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a pip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Search is a literature annotation tool for biological data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rovides a simple user interface and powerful feat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bSearch database stores the complete literature information of a model organism, along with the controlled vocabularies, gene and sequence information, and the associations between these data ty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: download and install software and you are in the business of literature cur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New Hire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zad Mah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ed March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responsible for PubSearch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ve bioinformatic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rrey Mesa Research In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lication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ting publication about 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.org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ed the domain name http://PubSearch.or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Software improve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ed read-only/read-write accounts. Now accounts can be limited to just searching for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commands for adding Communications or URL data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ized selection of references in the annotation page.  All reference types have a uniform interface for selecti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working on the improvement of the search interface. The plan is to separate out different search functions, but this is not yet relea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quence display now shows the associated genes to that 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Installation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d a binary for outside consumption and sent that file to the GMOD site (http://www.gmod.org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ified installation with installation scri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 Amigo browser, which allows selecting GO terms by clicking on them, not yet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Workshop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ture Curation Howt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orrow during the morning s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4:46:46Z</dcterms:created>
  <dc:creator>Lukas Mueller</dc:creator>
  <dc:description/>
  <dc:language>en-US</dc:language>
  <cp:lastModifiedBy>Lukas Mueller</cp:lastModifiedBy>
  <dcterms:modified xsi:type="dcterms:W3CDTF">2003-05-05T07:41:57Z</dcterms:modified>
  <cp:revision>6</cp:revision>
  <dc:subject/>
  <dc:title>PubSearch Update</dc:title>
</cp:coreProperties>
</file>